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1C30-2B88-403A-806D-8992C6B7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D35-3A11-4BBD-B1BC-7C622333F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2D8-25F9-4476-9812-4F2FCFCDF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D48F-53F0-46CD-9AA1-6E2F6078AD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A306-4989-4EDD-8E08-8AD5E883D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22FD-91F2-46B1-911C-484BE814BA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349A-8ED7-46C4-B4F4-11052CAA34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84AE-89E8-4F75-A614-E7FC82B46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1F48-A910-4D56-9BDC-F2076732D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42B-84F2-4387-A725-19838C0F7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191-6B47-4A6E-90E1-35AC8FB42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1C8-B551-42EC-A3FE-977BC3D7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5F0-D49A-4F4A-BBB7-9CCAB0AE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B9F-5F47-47B6-B990-64D849A7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C0D-B3FD-430B-8FAB-BB4AE53B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FD42-B54A-4E74-AD62-AAB1752C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9C9E-0C49-4D8A-BA8A-211EDC1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CC8-94EE-4152-954D-4FC1E24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8A89-AA74-4862-B042-214E1FE6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97AC-9806-4EDD-9C01-897DFC4C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698B-4E84-4690-B43E-06CB8F11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7A2E-3929-4A25-8B45-45DAF8A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11D-1B44-4EBD-A194-A9F5427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0CD7-D6AE-472C-853D-2F987AC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E4E8-13A7-4913-A94E-B2A6D34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A55-D982-41E0-B0F3-A86F0ADB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CF1A-C1D9-4393-9245-7020D5EB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7D85-0CEA-4629-9209-CA8DBAEF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831-D86F-4EA2-9C70-902646E2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030-3DC8-4DD3-BB84-480D9755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DC7-9868-45EE-8989-2EFC51B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EF0-E856-4DF4-81F3-5194B39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2E4-891D-4E79-A4CB-25F8B69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DF1-B733-440E-AF15-4A54013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423-6906-42A4-8A4A-1762C520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088F-3300-4184-AEFF-192587475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Line 4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46C8-FF05-4FD6-8D97-ACF129739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Minister</a:t>
            </a:r>
            <a:r>
              <a:rPr b="0" i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s Black Veil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haniel Hawthor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onnecting to the Literatur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cret, when kept too long can take on a mysterious signific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cause people to fill in the missing story and draw their own untrue conclu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nist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Black Veil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uritan parson keeps a secret from an entire village for his whole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Nathaniel Hawthorn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04 – 18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n in Salem, Massachus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ended from a prominent Puritan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ved that evil was a dominant force in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fiction expresses a gloomy vision of human affai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Inherited Guil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Hawthorn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ancestors was a Puritan judge who played a key role in the Salem witchcraft tri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ancestor was a judge known for his persecution of Qua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Hawthorn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character and focus as a writer were shaped by a sense of inherited gui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as haunted by the intolerance and cruelty of ances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as not a Puritan and was born 112 years after the Salem witchcraft tri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Minister</a:t>
            </a:r>
            <a:r>
              <a:rPr b="0" i="1" lang="ja-JP" sz="4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s Black Veil:  A Parabl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ble: a simple, usually brief , story that teaches a moral les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Allegory which is a story with both a literal and a symbolic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ubtitling this story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rable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wthorne indicates that the moral lesson it conveys is import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onnecting Literary Element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eil that Mr. Hooper vows never to remove is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mbol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s meaning in itself while also standing for something gre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the message expressed, analyze vei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symbolic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aled through responses of parishio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aled in minist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own deathbed explan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Reading Strateg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inferences about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message of work of fiction is conveyed indirectly through symbols, the reade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raw inferences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conclu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closely at details, especially descriptions and dialog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Inferenc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inferences is a way of interpreting a charact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behavior, statements, or an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tion Dialog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s changed himself into something awful, only by hiding his face.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ence:  Villagers are frightened by the ve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ocabula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erabl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ing respect p. 34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quit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n; wickedness (p.34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corous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proper (p. 34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tentatiou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ended to attract notice; showy (p. 343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gacious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hrewd; perceptive (p. 34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ocabula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gar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predictable occurrence p. 3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aracterized by trembling (p. 34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gger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schievous humor (p.34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ertinent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t showing proper respect (p. 34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tinac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ubborn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0:25:22Z</dcterms:created>
  <dc:creator>Nancy Sullivan</dc:creator>
  <dc:description/>
  <dc:language>en-US</dc:language>
  <cp:lastModifiedBy>Sharon Spada</cp:lastModifiedBy>
  <dcterms:modified xsi:type="dcterms:W3CDTF">2015-10-23T13:23:13Z</dcterms:modified>
  <cp:revision>4</cp:revision>
  <dc:subject/>
  <dc:title>The Minister’s Black Veil</dc:title>
</cp:coreProperties>
</file>